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move the slide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Chalkboard SE"/>
              </a:rPr>
              <a:t>Click to edit the notes format</a:t>
            </a:r>
            <a:endParaRPr b="0" lang="en-US" sz="2400" spc="-1" strike="noStrike">
              <a:solidFill>
                <a:srgbClr val="572e2d"/>
              </a:solidFill>
              <a:latin typeface="Chalkboard S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Chalkboard SE"/>
              </a:rPr>
              <a:t>Modules should be 3-7 minutes long </a:t>
            </a:r>
            <a:endParaRPr b="0" lang="en-US" sz="2400" spc="-1" strike="noStrike">
              <a:solidFill>
                <a:srgbClr val="572e2d"/>
              </a:solidFill>
              <a:latin typeface="Chalkboard S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2930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58680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2" marL="8798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3" marL="11732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4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5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6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1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42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ata Management Plans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Elements of a Data Management Plan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Ruth Duerr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National Snow and Ice Data Center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45" name="Picture 5" descr="image.png"/>
          <p:cNvPicPr/>
          <p:nvPr/>
        </p:nvPicPr>
        <p:blipFill>
          <a:blip r:embed="rId2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image.png"/>
          <p:cNvPicPr/>
          <p:nvPr/>
        </p:nvPicPr>
        <p:blipFill>
          <a:blip r:embed="rId3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49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58720" y="299880"/>
            <a:ext cx="65944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ata Management Plans</a:t>
            </a: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Elements of a Data Management Plan; Version 1.0, Reviewed ????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69360" indent="-369360">
              <a:lnSpc>
                <a:spcPct val="100000"/>
              </a:lnSpc>
              <a:spcBef>
                <a:spcPts val="4201"/>
              </a:spcBef>
              <a:buClr>
                <a:srgbClr val="42464d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2464d"/>
                </a:solidFill>
                <a:latin typeface="Helvetica Neue"/>
                <a:ea typeface="Helvetica Neue"/>
              </a:rPr>
              <a:t>As discussed in the module "Why do a data management plan?" it is as important to plan for managing your data as it is to plan the rest of your research activities.  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marL="369360" indent="-369360">
              <a:lnSpc>
                <a:spcPct val="100000"/>
              </a:lnSpc>
              <a:spcBef>
                <a:spcPts val="4201"/>
              </a:spcBef>
              <a:buClr>
                <a:srgbClr val="42464d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2464d"/>
                </a:solidFill>
                <a:latin typeface="Helvetica Neue"/>
                <a:ea typeface="Helvetica Neue"/>
              </a:rPr>
              <a:t>This module provides an overview of the data management-related topics you should think through when creating you data management plan.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marL="369360" indent="-369360">
              <a:lnSpc>
                <a:spcPct val="100000"/>
              </a:lnSpc>
              <a:spcBef>
                <a:spcPts val="4201"/>
              </a:spcBef>
              <a:buClr>
                <a:srgbClr val="42464d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2464d"/>
                </a:solidFill>
                <a:latin typeface="Helvetica Neue"/>
                <a:ea typeface="Helvetica Neue"/>
              </a:rPr>
              <a:t>Once documented, these topics become the elements of your data management plan.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54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558720" y="299880"/>
            <a:ext cx="65944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ata Management Plans</a:t>
            </a: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Elements of a Data Management Plan; Version 1.0, Reviewed ????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Elements of a Data Management Plan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- 1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7640" y="2722680"/>
            <a:ext cx="1186200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201"/>
              </a:spcBef>
              <a:buClr>
                <a:srgbClr val="42464d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2464d"/>
                </a:solidFill>
                <a:latin typeface="Helvetica Neue"/>
                <a:ea typeface="Helvetica Neue"/>
              </a:rPr>
              <a:t>Identify the materials to be created during your research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marL="380880" indent="-380880">
              <a:lnSpc>
                <a:spcPct val="100000"/>
              </a:lnSpc>
              <a:spcBef>
                <a:spcPts val="4201"/>
              </a:spcBef>
              <a:buClr>
                <a:srgbClr val="42464d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2464d"/>
                </a:solidFill>
                <a:latin typeface="Helvetica Neue"/>
                <a:ea typeface="Helvetica Neue"/>
              </a:rPr>
              <a:t>Think about whom other than yourself these materials may be useful to (i.e., your audience(s))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marL="380880" indent="-380880">
              <a:lnSpc>
                <a:spcPct val="100000"/>
              </a:lnSpc>
              <a:spcBef>
                <a:spcPts val="4201"/>
              </a:spcBef>
              <a:buClr>
                <a:srgbClr val="42464d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2464d"/>
                </a:solidFill>
                <a:latin typeface="Helvetica Neue"/>
                <a:ea typeface="Helvetica Neue"/>
              </a:rPr>
              <a:t>How are you going to organize your data?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marL="380880" indent="-380880">
              <a:lnSpc>
                <a:spcPct val="100000"/>
              </a:lnSpc>
              <a:spcBef>
                <a:spcPts val="4201"/>
              </a:spcBef>
              <a:buClr>
                <a:srgbClr val="42464d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2464d"/>
                </a:solidFill>
                <a:latin typeface="Helvetica Neue"/>
                <a:ea typeface="Helvetica Neue"/>
              </a:rPr>
              <a:t>Who is going to do your data management activities?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59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558720" y="299880"/>
            <a:ext cx="65944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ata Management Plans</a:t>
            </a: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Elements of a Data Management Plan; Version 1.0, Reviewed ????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Elements of a Data Management Plan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- 2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7640" y="2550600"/>
            <a:ext cx="11862000" cy="656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201"/>
              </a:spcBef>
              <a:buClr>
                <a:srgbClr val="42464d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2464d"/>
                </a:solidFill>
                <a:latin typeface="Helvetica Neue"/>
                <a:ea typeface="Helvetica Neue"/>
              </a:rPr>
              <a:t>How will you describe and document your data so that you (and others) understand it in a few years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marL="380880" indent="-380880">
              <a:lnSpc>
                <a:spcPct val="100000"/>
              </a:lnSpc>
              <a:spcBef>
                <a:spcPts val="4201"/>
              </a:spcBef>
              <a:buClr>
                <a:srgbClr val="42464d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2464d"/>
                </a:solidFill>
                <a:latin typeface="Helvetica Neue"/>
                <a:ea typeface="Helvetica Neue"/>
              </a:rPr>
              <a:t>What standards will you use (file formats, naming conventions, documentation, metadata, etc.)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marL="380880" indent="-380880">
              <a:lnSpc>
                <a:spcPct val="100000"/>
              </a:lnSpc>
              <a:spcBef>
                <a:spcPts val="4201"/>
              </a:spcBef>
              <a:buClr>
                <a:srgbClr val="42464d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2464d"/>
                </a:solidFill>
                <a:latin typeface="Helvetica Neue"/>
                <a:ea typeface="Helvetica Neue"/>
              </a:rPr>
              <a:t>Data access, sharing, and re-use policies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marL="380880" indent="-380880">
              <a:lnSpc>
                <a:spcPct val="100000"/>
              </a:lnSpc>
              <a:spcBef>
                <a:spcPts val="4201"/>
              </a:spcBef>
              <a:buClr>
                <a:srgbClr val="42464d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2464d"/>
                </a:solidFill>
                <a:latin typeface="Helvetica Neue"/>
                <a:ea typeface="Helvetica Neue"/>
              </a:rPr>
              <a:t>Backups, archives, and preservation strategy 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64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558720" y="299880"/>
            <a:ext cx="65944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ata Management Plans</a:t>
            </a: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Elements of a Data Management Plan; Version 1.0, Reviewed ????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For a detailed questionnaire with most of the issues you may need to address in an NSF data management plan see: http://dmp.data.jhu.edu/sites/default/files/Questionnaire.doc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ITLibraries have a fairly comprehensive site about data management and publishing in general at http://libraries.mit.edu/guides/subjects/data-management/index.html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he Digital Curation Center in the UK has a variety of information on data management plans at http://www.dcc.ac.uk/resources/data-management-plans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marL="26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marL="26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marL="26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69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558720" y="299880"/>
            <a:ext cx="65944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ata Management Plans</a:t>
            </a: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Elements of a Data Management Plan; Version 1.0, Reviewed ????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Other Data Management Plan Modules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71320" y="2323800"/>
            <a:ext cx="11861640" cy="72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201"/>
              </a:spcBef>
              <a:buClr>
                <a:srgbClr val="42464d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42464d"/>
                </a:solidFill>
                <a:latin typeface="Helvetica Neue"/>
                <a:ea typeface="Helvetica Neue"/>
              </a:rPr>
              <a:t>Why create a data management plan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marL="339840" indent="-339840">
              <a:lnSpc>
                <a:spcPct val="100000"/>
              </a:lnSpc>
              <a:spcBef>
                <a:spcPts val="4201"/>
              </a:spcBef>
              <a:buClr>
                <a:srgbClr val="42464d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42464d"/>
                </a:solidFill>
                <a:latin typeface="Helvetica Neue"/>
                <a:ea typeface="Helvetica Neue"/>
              </a:rPr>
              <a:t>Identify materials to be created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marL="339840" indent="-339840">
              <a:lnSpc>
                <a:spcPct val="100000"/>
              </a:lnSpc>
              <a:spcBef>
                <a:spcPts val="4201"/>
              </a:spcBef>
              <a:buClr>
                <a:srgbClr val="42464d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42464d"/>
                </a:solidFill>
                <a:latin typeface="Helvetica Neue"/>
                <a:ea typeface="Helvetica Neue"/>
              </a:rPr>
              <a:t>Identify your audience(s) 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marL="339840" indent="-339840">
              <a:lnSpc>
                <a:spcPct val="100000"/>
              </a:lnSpc>
              <a:spcBef>
                <a:spcPts val="4201"/>
              </a:spcBef>
              <a:buClr>
                <a:srgbClr val="42464d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42464d"/>
                </a:solidFill>
                <a:latin typeface="Helvetica Neue"/>
                <a:ea typeface="Helvetica Neue"/>
              </a:rPr>
              <a:t>Data organization 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marL="339840" indent="-339840">
              <a:lnSpc>
                <a:spcPct val="100000"/>
              </a:lnSpc>
              <a:spcBef>
                <a:spcPts val="4201"/>
              </a:spcBef>
              <a:buClr>
                <a:srgbClr val="42464d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42464d"/>
                </a:solidFill>
                <a:latin typeface="Helvetica Neue"/>
                <a:ea typeface="Helvetica Neue"/>
              </a:rPr>
              <a:t>Roles and responsibilities 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marL="339840" indent="-339840">
              <a:lnSpc>
                <a:spcPct val="100000"/>
              </a:lnSpc>
              <a:spcBef>
                <a:spcPts val="4201"/>
              </a:spcBef>
              <a:buClr>
                <a:srgbClr val="42464d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42464d"/>
                </a:solidFill>
                <a:latin typeface="Helvetica Neue"/>
                <a:ea typeface="Helvetica Neue"/>
              </a:rPr>
              <a:t>Describing and documenting your data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74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558720" y="299880"/>
            <a:ext cx="65944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ata Management Plans</a:t>
            </a: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Elements of a Data Management Plan; Version 1.0, Reviewed ????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Other Data Management Plan Modules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71320" y="2323800"/>
            <a:ext cx="11861640" cy="72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Standards for data formats, metadata, vocabularies, data conventions, etc.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marL="324000" indent="-3240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Data access, sharing, and re-use policies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marL="324000" indent="-3240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Backups, archives, and preservation strategies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marL="324000" indent="-3240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Estimating effort and resources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marL="324000" indent="-3240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Hardware, software capabilities required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marL="324000" indent="-3240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Personnel resources and skills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marL="324000" indent="-3240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Some available resources to help with developing your plan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79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558720" y="299880"/>
            <a:ext cx="65944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ata Management Plans</a:t>
            </a: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Elements of a Data Management Plan; Version 1.0, Reviewed ????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Other Relevant Modules (continued)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1320" y="2658960"/>
            <a:ext cx="1186164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201"/>
              </a:spcBef>
              <a:buClr>
                <a:srgbClr val="42464d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2464d"/>
                </a:solidFill>
                <a:latin typeface="Helvetica Neue"/>
                <a:ea typeface="Helvetica Neue"/>
              </a:rPr>
              <a:t>The case for data management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marL="380880" indent="-380880">
              <a:lnSpc>
                <a:spcPct val="100000"/>
              </a:lnSpc>
              <a:spcBef>
                <a:spcPts val="4201"/>
              </a:spcBef>
              <a:buClr>
                <a:srgbClr val="42464d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2464d"/>
                </a:solidFill>
                <a:latin typeface="Helvetica Neue"/>
                <a:ea typeface="Helvetica Neue"/>
              </a:rPr>
              <a:t>Local data management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marL="380880" indent="-380880">
              <a:lnSpc>
                <a:spcPct val="100000"/>
              </a:lnSpc>
              <a:spcBef>
                <a:spcPts val="4201"/>
              </a:spcBef>
              <a:buClr>
                <a:srgbClr val="42464d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2464d"/>
                </a:solidFill>
                <a:latin typeface="Helvetica Neue"/>
                <a:ea typeface="Helvetica Neue"/>
              </a:rPr>
              <a:t>Preservation strategies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uth Duerr</cp:lastModifiedBy>
  <dcterms:modified xsi:type="dcterms:W3CDTF">2011-11-04T22:26:44Z</dcterms:modified>
  <cp:revision>2</cp:revision>
  <dc:subject/>
  <dc:title>Data Management Plans:  Elements of a Data Management Plan</dc:title>
</cp:coreProperties>
</file>